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907588"/>
  <p:notesSz cx="6858000" cy="9663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AE97-8CA8-401B-8345-114D268B7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3040" y="2420640"/>
            <a:ext cx="5829120" cy="21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480060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028520" y="6935760"/>
            <a:ext cx="480060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0D74-33EF-4CAE-80C0-C3255DC45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43040" y="2420640"/>
            <a:ext cx="5829120" cy="21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28520" y="693576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488400" y="693576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37EC-A4DF-428A-B523-B6708C5AA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3040" y="2420640"/>
            <a:ext cx="5829120" cy="21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2651760" y="561312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274640" y="561312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028520" y="693576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2651760" y="693576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4274640" y="693576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C5EB-B619-471D-8B99-620D490C5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FA077-B9AB-4E47-AE5E-841DF6A3F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3040" y="2420640"/>
            <a:ext cx="5829120" cy="21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2CCBF-AC71-4EF9-872A-924E75FFF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3040" y="2420640"/>
            <a:ext cx="5829120" cy="21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69698-E49E-40EA-9968-8BBDF7129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3040" y="2420640"/>
            <a:ext cx="5829120" cy="21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95144-ACB1-46A1-96F8-194EE02A3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43040" y="2420640"/>
            <a:ext cx="5829120" cy="21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909D5-83E4-4661-85B7-1BB0DA379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743040" y="2420640"/>
            <a:ext cx="5829120" cy="9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C8D51-3D2C-459B-B1CE-9A0980C6F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3040" y="2420640"/>
            <a:ext cx="5829120" cy="21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28520" y="693576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19738-AAC7-445F-80BC-46CC27DFA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3040" y="2420640"/>
            <a:ext cx="5829120" cy="21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7ED7-D9AF-430A-97DC-644BAE349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43040" y="2420640"/>
            <a:ext cx="5829120" cy="21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488400" y="693576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7E58B-D034-4B50-B360-4415CB8D1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3040" y="2420640"/>
            <a:ext cx="5829120" cy="21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028520" y="6935760"/>
            <a:ext cx="480060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A35DF-4758-4E58-85A8-F7E540DAF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43040" y="2420640"/>
            <a:ext cx="5829120" cy="21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480060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028520" y="6935760"/>
            <a:ext cx="480060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BE471-D8A1-490D-8D46-262D0026F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3040" y="2420640"/>
            <a:ext cx="5829120" cy="21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028520" y="693576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488400" y="693576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ECE27-1D36-4992-AD46-ED3A3999E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3040" y="2420640"/>
            <a:ext cx="5829120" cy="21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2651760" y="561312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274640" y="561312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028520" y="693576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2651760" y="693576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4274640" y="693576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55B95-1382-4EDB-859D-35BD2C409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3040" y="2420640"/>
            <a:ext cx="5829120" cy="21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14CF-CF52-4C70-B55F-6EAC9A97B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3040" y="2420640"/>
            <a:ext cx="5829120" cy="21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6511-10F6-4B59-AD71-18BA73444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3040" y="2420640"/>
            <a:ext cx="5829120" cy="21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D009-70A3-484E-8B6F-989EAF857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743040" y="2420640"/>
            <a:ext cx="5829120" cy="9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7908-69B4-4312-A0D6-E94E44A33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3040" y="2420640"/>
            <a:ext cx="5829120" cy="21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28520" y="693576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CA37-ADED-425E-ADFD-8A482DDB7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3040" y="2420640"/>
            <a:ext cx="5829120" cy="21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488400" y="693576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FFC9-6E27-4091-99B4-9C042F6D5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3040" y="2420640"/>
            <a:ext cx="5829120" cy="21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28520" y="6935760"/>
            <a:ext cx="480060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BBCD-DA71-495B-A34B-6D32AB06C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2840" y="1587600"/>
            <a:ext cx="328680" cy="68400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00120" y="1587600"/>
            <a:ext cx="245880" cy="684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06440" y="2197080"/>
            <a:ext cx="315720" cy="6858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84360" y="2197080"/>
            <a:ext cx="27612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95400" y="2090880"/>
            <a:ext cx="420480" cy="6109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71680" y="1430280"/>
            <a:ext cx="23760" cy="152100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31920" y="2573280"/>
            <a:ext cx="617040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63640" y="309240"/>
            <a:ext cx="5844960" cy="21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87040" y="2914560"/>
            <a:ext cx="58294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871200" y="9018720"/>
            <a:ext cx="142884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2742840" y="9018720"/>
            <a:ext cx="217188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5281200" y="9018720"/>
            <a:ext cx="142884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8BFB8-826A-42F3-B8CC-8E29841AC3F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3522600"/>
            <a:ext cx="6756120" cy="1518840"/>
            <a:chOff x="0" y="3522600"/>
            <a:chExt cx="6756120" cy="1518840"/>
          </a:xfrm>
        </p:grpSpPr>
        <p:grpSp>
          <p:nvGrpSpPr>
            <p:cNvPr id="49" name=""/>
            <p:cNvGrpSpPr/>
            <p:nvPr/>
          </p:nvGrpSpPr>
          <p:grpSpPr>
            <a:xfrm>
              <a:off x="217800" y="3678120"/>
              <a:ext cx="532800" cy="685080"/>
              <a:chOff x="217800" y="3678120"/>
              <a:chExt cx="532800" cy="685080"/>
            </a:xfrm>
          </p:grpSpPr>
          <p:sp>
            <p:nvSpPr>
              <p:cNvPr id="50" name=""/>
              <p:cNvSpPr/>
              <p:nvPr/>
            </p:nvSpPr>
            <p:spPr>
              <a:xfrm>
                <a:off x="217800" y="3678120"/>
                <a:ext cx="327960" cy="6850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504720" y="3678120"/>
                <a:ext cx="245880" cy="685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310680" y="4287600"/>
              <a:ext cx="552960" cy="685080"/>
              <a:chOff x="310680" y="4287600"/>
              <a:chExt cx="552960" cy="685080"/>
            </a:xfrm>
          </p:grpSpPr>
          <p:sp>
            <p:nvSpPr>
              <p:cNvPr id="53" name=""/>
              <p:cNvSpPr/>
              <p:nvPr/>
            </p:nvSpPr>
            <p:spPr>
              <a:xfrm>
                <a:off x="310680" y="4287600"/>
                <a:ext cx="316080" cy="6850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87160" y="4287600"/>
                <a:ext cx="276480" cy="685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4182120"/>
              <a:ext cx="420120" cy="6091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75920" y="3522600"/>
              <a:ext cx="23400" cy="15188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236880" y="4709160"/>
              <a:ext cx="6519240" cy="79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3040" y="2420640"/>
            <a:ext cx="5829120" cy="21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7426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25718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51436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3F2E1-D332-42E5-BE52-D5A53219A27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75920" y="5168520"/>
            <a:ext cx="604836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LHORAMENTO DE ESTRADAS PARA ESCOAMENTO DA PRODUÇÃO DO PROJETO SALITR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1052640" y="7469280"/>
            <a:ext cx="47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PROJETO BÁS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57360" y="8985240"/>
            <a:ext cx="3744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UBRO/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AZEIRO/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24280" y="82659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lum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882720" y="849240"/>
            <a:ext cx="5354640" cy="35467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907920" y="6537240"/>
            <a:ext cx="51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PLICAÇÃO AV. SALI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19:01:32Z</dcterms:created>
  <dc:creator>usuario</dc:creator>
  <dc:description/>
  <dc:language>en-US</dc:language>
  <cp:lastModifiedBy>usuario</cp:lastModifiedBy>
  <dcterms:modified xsi:type="dcterms:W3CDTF">2008-11-07T13:56:36Z</dcterms:modified>
  <cp:revision>34</cp:revision>
  <dc:subject/>
  <dc:title>Slide 1</dc:title>
</cp:coreProperties>
</file>